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8F32-0D56-4511-83FD-ED908CA24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an Ag Metals class these geometry figures could be used in a variety of way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sketch diagrams and cut out of paper to practice basic skill of understanding the fold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are provided various correct and incorrect diagrams to tes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sketch diagrams and use them to create a metal bending project. </a:t>
            </a:r>
            <a:endParaRPr b="0" lang="en-US" sz="1200" spc="-1" strike="noStrike">
              <a:solidFill>
                <a:srgbClr val="000000"/>
              </a:solidFill>
              <a:latin typeface="Calibri"/>
            </a:endParaRPr>
          </a:p>
          <a:p>
            <a:pPr lvl="3" marL="1371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y diagram on metal and trace it.</a:t>
            </a:r>
            <a:endParaRPr b="0" lang="en-US" sz="1200" spc="-1" strike="noStrike">
              <a:solidFill>
                <a:srgbClr val="000000"/>
              </a:solidFill>
              <a:latin typeface="Calibri"/>
            </a:endParaRPr>
          </a:p>
          <a:p>
            <a:pPr lvl="3" marL="1371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asure dimensions of diagram, adjust to desired size, and mark dimensions on metal.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are provided with a worksheet that contains hypothetical situations to use these shapes for metal bending. Students determine which examples would and would no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Instead of using paper to create the diagrams, sketch them on thin cardboard, such as a cereal box. Paper may be too flimsy for this type of project.</a:t>
            </a: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6771-D89D-413E-B37E-0FE904287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77DE1A-FA80-41E9-A84F-0C9AD44E9F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4B9DF861-ED90-4067-A1A6-B867FFD2610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BC0488-926E-4EB1-8F63-656CA96CA9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BF8F37-966E-480B-A77E-383905D5DC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05F83F-DE1D-4D05-AD1B-93507145EA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8485FB-4DEF-4652-8CF1-B2DDDD4269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6FC60C-A226-40A5-ADF4-3ECAF9D368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600339-8DBC-4EAC-9596-58F730B459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FDA8A8-D7EC-4B39-A70F-57A834A302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5F892E-BDB4-4F36-AAE6-36B7F41B6F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1D8F38-CA9E-4328-B8B4-578E719A15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2C86AF-D33D-480B-83E5-9149D8C168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F87CFE0A-1B54-4778-B19B-7A1D8BBE530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B8E800-66D0-4F19-A8E4-EFEAA4AD09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288DC8-8E47-4DF4-8F9E-E99611D555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35E098-E99D-4DB4-811F-85611926F5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331A73-0FC9-4CB0-B89C-1A07749E72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356271-74E2-492E-8FB3-4F248152F2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3D6F0D-A5B3-4F20-A424-9E4CACFD5E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654ACD-40E0-4135-94D7-081C5C3778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F53F2E-65F5-4B41-B2E5-D0C8E8037D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E7E1A3-B203-4F3C-8420-625DAE06F8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A66B79-8C6F-4F5A-B47F-BA79495E10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9E397EA4-4A7C-4FC2-992A-97008BE19A5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4BAC74-4781-4F45-90C5-7CB4B06853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209210-4730-4D79-A163-FFBDF51B52C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63FF57-8B2A-4B7A-99A7-BD6197B35F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F6FA97-8133-4A01-AA0C-5BA77571BA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6A81BE-66C0-4989-9A30-093296F26A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2C88AF-B632-4A7B-B725-8BECB125BB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A84BC3-CC4D-4A22-A582-25CE950EED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E63221-189F-4DA1-9815-ED65FC20C6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737B7C-2CDD-4C55-8CB1-8D2DD23911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F13AB2-477C-4303-A24C-5D0FB5675D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8796773-1365-4AB8-912F-EBA89EB722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499F63-E616-4D5D-84AF-BB75FD3D72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B0C960B-D950-486A-9FED-1FD42C1BAB6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1EEFEA-2D89-4590-9D39-0B5F1296632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C90573D-D9AC-42CB-8EC1-0BAF4B4275F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CD51B0-2F68-428C-9A9E-5542AAFA98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7B683D-853B-4CCD-AC97-BA87DBFD6B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698102-26A6-427C-A6EE-A19B87A83E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2AB628-E4E1-495F-A0B2-DF01A9E17B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DB8D23-B5B0-460C-8738-8A6EF06D45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40AF24-0D24-4E13-B9B1-FCAE3FE0A9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5D12DFD7-78EC-46E1-9426-A2FEA27C2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3C62FF-F77F-4B15-B91E-A2A6500E2B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BB7A13-BF46-482A-8E87-CA13B23FF5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5C1363-3F89-4F5B-83EB-62645D8A55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1EC3E3D-F249-4D9D-A9E1-4BD84A20AFC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5C9B8CA-6B28-4B34-8E4D-7345C0FA5F3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785E8420-2DC5-4811-952E-5C3675D8C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E4B16218-8D89-4CFB-9F5D-BDFC703E6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E42F2161-3C17-4FCB-9531-B3BD287C86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66B63867-7B1C-4FDB-8B4A-0ADBD84C8A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5CBC56E1-8BBF-41A0-B008-B8CD5C1E3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4369E668-1C22-4925-818C-A03AFFC13A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A134F7AA-D5EB-48A5-ABE7-AD0E6504EF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4E9FE598-465F-4E7F-99D1-07419F6B4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B00A8F46-9678-4205-857B-A0DDF85C6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2BED2367-D891-4397-85A6-AEBBA2F4A0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63093B7D-F0D6-4BAD-96C3-7419675A57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ED0E5-8D43-4696-973E-4C6291179E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551C9-ACC4-4E8B-89D0-D57C6038B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D52BE-7F9F-4308-86B4-700133C74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9890E-B3E9-4305-929B-9FFE1AAB2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3AB5F-4B1C-40C4-AEAA-084F03A93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A7BB382D-B22D-458E-B61B-1F788189E23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A42B8-79D2-4D86-A98A-368B97421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B7704-D704-41CD-9359-371122E5B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8D0F4-9175-45A2-90B7-9A1FB6DA7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795F2-CB96-43E1-99C3-AE4C73003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EDE00-7EE1-47BF-A2A1-FA5EE13EB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9B69F9-17A0-46D2-A357-1D61AAC21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59986-A9D1-473F-9E7C-D5D932C8F4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F34063-582C-49A5-AB2D-609E608F85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223777-F619-476C-AD76-F8824B83C4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61132F-9B35-4CD3-A47A-8445086B44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3596BEF4-D0E4-4321-A202-95FDF5502A6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F05947-5F95-4D2D-BE95-B599FCE9AB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69D826-54FD-49E3-B7D2-90D85A92FB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4FC24C-6A25-4025-BB7F-58B93C75D5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76DBA-9CC8-4FA8-A773-676FAB056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0FB47-E447-42B4-9AA4-1F1B9ADD3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58F03E-8A83-49C6-9C8F-E38E7EED8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D41239-3DF6-4B06-BBBC-FE3ECDDE2D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A4DFEC-06C9-4F77-B720-1B3E6FDBD4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F23C39-9039-4AA8-BCCE-B17D6EDF80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6DD3BC-1DF0-4AA8-8FA4-2FB45556B6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5E90F4D8-F615-446B-B8BD-048BACE0FC0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49818A-604A-4775-9868-6A5BEEE98A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C81403-0C12-422B-AE3D-16EDA171A0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922939-94C5-44C4-AA04-992695E99F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50BA6A-E280-4460-A4D2-EA08116C65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0BF42D-657C-4CDF-B6B6-AA90D0F1D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824F82-E258-4F49-AC92-0106D1E6B6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854FEB-F553-4681-821B-0D475530A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68A1B1-432D-4B35-B99C-ABF5FAE334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940DC4-65E6-46A5-9047-69F8F84579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D0CF85-6F8B-479F-A485-5BB1BC8883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99E0CCC5-3D0A-4D41-9503-26961B7755D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A83C93-0B9E-4FD0-8F30-41764CDA62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29A638-D9FE-4C60-95F2-3C13652712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9F3827-DD69-4667-9FD7-B4AD94B59B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EF9C52-ED6F-473C-957B-0B436D9623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8FFACD-CE73-43BE-B7FA-A64AF6CE11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AD7BDB-7F94-4F45-AEAE-19AC053280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571052-78A8-4418-B195-F123D0E494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19F9C9-8165-4698-A2AB-369A87A4AC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A84D9-61CA-420E-B88C-66D88CA00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9129B8-185F-482D-BCBD-70E31A48C6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75108410-BAC6-4D16-B044-E8258BE5FA3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015EC2-B81C-4115-8627-F502A295DB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79E337-3E85-4471-B1EA-3D9FFB75A8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C29653-6AE7-4D3B-AB6C-7E49E83152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BA5271-DFEC-4360-9525-05E5B3920C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147A21-45F9-45DD-8CFC-674D6EA97C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5ABC36-4A56-4F45-8530-4D22BEC04A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C807A8-F680-473C-90C8-57709706DF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D65EA9-0360-4F21-A8FA-E3EEBCD3B8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71ABCB-5C8C-4226-A49E-9BB7A62039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3B3A4E-BD0C-4DC0-8112-8BF79C0A93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C48DE794-30ED-4424-9DB6-9D641ECC6C1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D21A01-AFE5-41FF-8560-4C14C7DA37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B0544E-0391-4D7F-8240-FE65C53D6B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FF8825-4CA4-46EF-9C1E-7A5DCB4430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CF5C5F-F028-4FE6-A058-AE5D251627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A7CD1A-F4F6-467A-A82F-4F3547F96C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EC4C3B-E01C-4363-BE7D-BFC0BD4D2A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E78041-8F7D-402D-B479-7D08BC0722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40D082-3F9F-44B0-9BC9-1EA7A04868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A5F0E8-6DEE-4D1A-A39A-98BAE2BB44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328838-BBBB-4D30-9F51-30E2A4F3D5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E762CCFE-D51E-467D-BCEF-8D4865C441B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5B72D5-FB6B-406D-85AE-18AA964A04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38376A-3C8C-425C-86AB-4B30184726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0BFF90-5125-4EE5-B809-15130703BA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83A8F1-24BD-4D3B-B708-89417B0DF6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E01B43-9F6F-490C-A31D-ECA7FFC60E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D70EFD-0952-447D-8C4A-62DC6C2A27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CB54F2-97F9-46B9-9B31-79D921928B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B1A545-DA31-4D66-A9AC-2DC0CDD1E5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703E16-5575-4C51-84FE-5C68C7CDD8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EF8FC1-D235-4B32-9760-7FF2C2DDCD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5CE75-9FCC-41F0-8EF7-EAD42D10AF10}"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6F1B-50E0-41B6-9BBB-DCF389721B20}"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9DBC-AD46-4027-BD7A-AB41BB93FF35}"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ED33-CC15-415B-82EE-76F51F52D3E3}"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0705-6FCC-4414-94F8-02B4D10D524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F299-BF07-4C8C-BAFC-8ABFD364653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4FA3-9897-40C3-9684-465A7FA3D2F3}"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2AF35-5E66-4F47-9643-4A5CB3E355D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4DD9-ABF9-4714-AF70-BC6755A16068}"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F1D8-D389-4B14-BD2D-5606D5764A65}"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40779-4FBA-4201-9ADF-C596D16644D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57F9-86DC-47B7-B01A-75F4D6178DDE}"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3</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s time the paper folds perfectly into a box. He can now lay this paper model onto the metal and trace around the outline. He also can measure the dimensions of the boxes to make marks on the metal for the appropriate bends.</a:t>
            </a:r>
            <a:endParaRPr b="0" lang="en-US" sz="2800" spc="-1" strike="noStrike">
              <a:solidFill>
                <a:srgbClr val="4e3b30"/>
              </a:solidFill>
              <a:latin typeface="Verdana"/>
            </a:endParaRPr>
          </a:p>
        </p:txBody>
      </p:sp>
      <p:sp>
        <p:nvSpPr>
          <p:cNvPr id="59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n Ag Metals teacher assigns students to build a pencil-box by bending and shaping metal. She provides a worksheet that includes various possibilities to use to make the box. Students must choose which model would accurately fold into a square box.</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Once students have selected the correct diagram, they will enlarge the dimensions to create a pencil-box. Which diagram should they use?</a:t>
            </a:r>
            <a:endParaRPr b="0" lang="en-US" sz="2800" spc="-1" strike="noStrike">
              <a:solidFill>
                <a:srgbClr val="4e3b30"/>
              </a:solidFill>
              <a:latin typeface="Verdana"/>
            </a:endParaRPr>
          </a:p>
        </p:txBody>
      </p:sp>
      <p:grpSp>
        <p:nvGrpSpPr>
          <p:cNvPr id="596" name="Group 2"/>
          <p:cNvGrpSpPr/>
          <p:nvPr/>
        </p:nvGrpSpPr>
        <p:grpSpPr>
          <a:xfrm>
            <a:off x="3905280" y="3733920"/>
            <a:ext cx="1400040" cy="1257120"/>
            <a:chOff x="3905280" y="3733920"/>
            <a:chExt cx="1400040" cy="1257120"/>
          </a:xfrm>
        </p:grpSpPr>
        <p:sp>
          <p:nvSpPr>
            <p:cNvPr id="597" name="Rectangle 3"/>
            <p:cNvSpPr/>
            <p:nvPr/>
          </p:nvSpPr>
          <p:spPr>
            <a:xfrm>
              <a:off x="4371840" y="373392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
            <p:cNvSpPr/>
            <p:nvPr/>
          </p:nvSpPr>
          <p:spPr>
            <a:xfrm>
              <a:off x="390528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5"/>
            <p:cNvSpPr/>
            <p:nvPr/>
          </p:nvSpPr>
          <p:spPr>
            <a:xfrm>
              <a:off x="3905280" y="415296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6"/>
            <p:cNvSpPr/>
            <p:nvPr/>
          </p:nvSpPr>
          <p:spPr>
            <a:xfrm>
              <a:off x="3905280" y="373392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7"/>
            <p:cNvSpPr/>
            <p:nvPr/>
          </p:nvSpPr>
          <p:spPr>
            <a:xfrm>
              <a:off x="437184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8"/>
            <p:cNvSpPr/>
            <p:nvPr/>
          </p:nvSpPr>
          <p:spPr>
            <a:xfrm>
              <a:off x="483876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3" name="Group 9"/>
          <p:cNvGrpSpPr/>
          <p:nvPr/>
        </p:nvGrpSpPr>
        <p:grpSpPr>
          <a:xfrm>
            <a:off x="6324480" y="3733920"/>
            <a:ext cx="1866960" cy="1257120"/>
            <a:chOff x="6324480" y="3733920"/>
            <a:chExt cx="1866960" cy="1257120"/>
          </a:xfrm>
        </p:grpSpPr>
        <p:sp>
          <p:nvSpPr>
            <p:cNvPr id="604" name="Rectangle 10"/>
            <p:cNvSpPr/>
            <p:nvPr/>
          </p:nvSpPr>
          <p:spPr>
            <a:xfrm>
              <a:off x="679104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1"/>
            <p:cNvSpPr/>
            <p:nvPr/>
          </p:nvSpPr>
          <p:spPr>
            <a:xfrm>
              <a:off x="725796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12"/>
            <p:cNvSpPr/>
            <p:nvPr/>
          </p:nvSpPr>
          <p:spPr>
            <a:xfrm>
              <a:off x="632448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13"/>
            <p:cNvSpPr/>
            <p:nvPr/>
          </p:nvSpPr>
          <p:spPr>
            <a:xfrm>
              <a:off x="7257960" y="373392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4"/>
            <p:cNvSpPr/>
            <p:nvPr/>
          </p:nvSpPr>
          <p:spPr>
            <a:xfrm>
              <a:off x="772488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5"/>
            <p:cNvSpPr/>
            <p:nvPr/>
          </p:nvSpPr>
          <p:spPr>
            <a:xfrm>
              <a:off x="7724880" y="457200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0"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1" name="Group 16"/>
          <p:cNvGrpSpPr/>
          <p:nvPr/>
        </p:nvGrpSpPr>
        <p:grpSpPr>
          <a:xfrm>
            <a:off x="1019160" y="3733920"/>
            <a:ext cx="1866600" cy="1676160"/>
            <a:chOff x="1019160" y="3733920"/>
            <a:chExt cx="1866600" cy="1676160"/>
          </a:xfrm>
        </p:grpSpPr>
        <p:sp>
          <p:nvSpPr>
            <p:cNvPr id="612" name="Rectangle 23"/>
            <p:cNvSpPr/>
            <p:nvPr/>
          </p:nvSpPr>
          <p:spPr>
            <a:xfrm>
              <a:off x="2419200" y="4991040"/>
              <a:ext cx="466560" cy="419040"/>
            </a:xfrm>
            <a:prstGeom prst="rect">
              <a:avLst/>
            </a:prstGeom>
            <a:solidFill>
              <a:srgbClr val="ffc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22"/>
            <p:cNvSpPr/>
            <p:nvPr/>
          </p:nvSpPr>
          <p:spPr>
            <a:xfrm>
              <a:off x="1019160" y="373392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1"/>
            <p:cNvSpPr/>
            <p:nvPr/>
          </p:nvSpPr>
          <p:spPr>
            <a:xfrm>
              <a:off x="1019160" y="41522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20"/>
            <p:cNvSpPr/>
            <p:nvPr/>
          </p:nvSpPr>
          <p:spPr>
            <a:xfrm>
              <a:off x="1485720" y="41522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19"/>
            <p:cNvSpPr/>
            <p:nvPr/>
          </p:nvSpPr>
          <p:spPr>
            <a:xfrm>
              <a:off x="1485720" y="45716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8"/>
            <p:cNvSpPr/>
            <p:nvPr/>
          </p:nvSpPr>
          <p:spPr>
            <a:xfrm>
              <a:off x="1952640" y="49910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7"/>
            <p:cNvSpPr/>
            <p:nvPr/>
          </p:nvSpPr>
          <p:spPr>
            <a:xfrm>
              <a:off x="1952640" y="45716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620"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Students should use the purple figure because it folds into a box.</a:t>
            </a:r>
            <a:endParaRPr b="0" lang="en-US" sz="2800" spc="-1" strike="noStrike">
              <a:solidFill>
                <a:srgbClr val="4e3b30"/>
              </a:solidFill>
              <a:latin typeface="Verdana"/>
            </a:endParaRPr>
          </a:p>
        </p:txBody>
      </p:sp>
      <p:grpSp>
        <p:nvGrpSpPr>
          <p:cNvPr id="621" name="Group 2"/>
          <p:cNvGrpSpPr/>
          <p:nvPr/>
        </p:nvGrpSpPr>
        <p:grpSpPr>
          <a:xfrm>
            <a:off x="3905280" y="3733920"/>
            <a:ext cx="1400040" cy="1257120"/>
            <a:chOff x="3905280" y="3733920"/>
            <a:chExt cx="1400040" cy="1257120"/>
          </a:xfrm>
        </p:grpSpPr>
        <p:sp>
          <p:nvSpPr>
            <p:cNvPr id="622" name="Rectangle 3"/>
            <p:cNvSpPr/>
            <p:nvPr/>
          </p:nvSpPr>
          <p:spPr>
            <a:xfrm>
              <a:off x="4371840" y="373392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4"/>
            <p:cNvSpPr/>
            <p:nvPr/>
          </p:nvSpPr>
          <p:spPr>
            <a:xfrm>
              <a:off x="390528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5"/>
            <p:cNvSpPr/>
            <p:nvPr/>
          </p:nvSpPr>
          <p:spPr>
            <a:xfrm>
              <a:off x="3905280" y="415296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6"/>
            <p:cNvSpPr/>
            <p:nvPr/>
          </p:nvSpPr>
          <p:spPr>
            <a:xfrm>
              <a:off x="3905280" y="373392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7"/>
            <p:cNvSpPr/>
            <p:nvPr/>
          </p:nvSpPr>
          <p:spPr>
            <a:xfrm>
              <a:off x="437184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8"/>
            <p:cNvSpPr/>
            <p:nvPr/>
          </p:nvSpPr>
          <p:spPr>
            <a:xfrm>
              <a:off x="483876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8" name="Group 9"/>
          <p:cNvGrpSpPr/>
          <p:nvPr/>
        </p:nvGrpSpPr>
        <p:grpSpPr>
          <a:xfrm>
            <a:off x="6324480" y="3733920"/>
            <a:ext cx="1866960" cy="1257120"/>
            <a:chOff x="6324480" y="3733920"/>
            <a:chExt cx="1866960" cy="1257120"/>
          </a:xfrm>
        </p:grpSpPr>
        <p:sp>
          <p:nvSpPr>
            <p:cNvPr id="629" name="Rectangle 10"/>
            <p:cNvSpPr/>
            <p:nvPr/>
          </p:nvSpPr>
          <p:spPr>
            <a:xfrm>
              <a:off x="679104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1"/>
            <p:cNvSpPr/>
            <p:nvPr/>
          </p:nvSpPr>
          <p:spPr>
            <a:xfrm>
              <a:off x="725796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2"/>
            <p:cNvSpPr/>
            <p:nvPr/>
          </p:nvSpPr>
          <p:spPr>
            <a:xfrm>
              <a:off x="632448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3"/>
            <p:cNvSpPr/>
            <p:nvPr/>
          </p:nvSpPr>
          <p:spPr>
            <a:xfrm>
              <a:off x="7257960" y="373392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4"/>
            <p:cNvSpPr/>
            <p:nvPr/>
          </p:nvSpPr>
          <p:spPr>
            <a:xfrm>
              <a:off x="772488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15"/>
            <p:cNvSpPr/>
            <p:nvPr/>
          </p:nvSpPr>
          <p:spPr>
            <a:xfrm>
              <a:off x="7724880" y="457200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Group 16"/>
          <p:cNvGrpSpPr/>
          <p:nvPr/>
        </p:nvGrpSpPr>
        <p:grpSpPr>
          <a:xfrm>
            <a:off x="1019160" y="3733920"/>
            <a:ext cx="1866600" cy="1676160"/>
            <a:chOff x="1019160" y="3733920"/>
            <a:chExt cx="1866600" cy="1676160"/>
          </a:xfrm>
        </p:grpSpPr>
        <p:sp>
          <p:nvSpPr>
            <p:cNvPr id="636" name="Rectangle 23"/>
            <p:cNvSpPr/>
            <p:nvPr/>
          </p:nvSpPr>
          <p:spPr>
            <a:xfrm>
              <a:off x="2419200" y="4991040"/>
              <a:ext cx="466560" cy="419040"/>
            </a:xfrm>
            <a:prstGeom prst="rect">
              <a:avLst/>
            </a:prstGeom>
            <a:solidFill>
              <a:srgbClr val="ffc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22"/>
            <p:cNvSpPr/>
            <p:nvPr/>
          </p:nvSpPr>
          <p:spPr>
            <a:xfrm>
              <a:off x="1019160" y="373392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21"/>
            <p:cNvSpPr/>
            <p:nvPr/>
          </p:nvSpPr>
          <p:spPr>
            <a:xfrm>
              <a:off x="1019160" y="41522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20"/>
            <p:cNvSpPr/>
            <p:nvPr/>
          </p:nvSpPr>
          <p:spPr>
            <a:xfrm>
              <a:off x="1485720" y="41522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19"/>
            <p:cNvSpPr/>
            <p:nvPr/>
          </p:nvSpPr>
          <p:spPr>
            <a:xfrm>
              <a:off x="1485720" y="45716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18"/>
            <p:cNvSpPr/>
            <p:nvPr/>
          </p:nvSpPr>
          <p:spPr>
            <a:xfrm>
              <a:off x="1952640" y="49910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17"/>
            <p:cNvSpPr/>
            <p:nvPr/>
          </p:nvSpPr>
          <p:spPr>
            <a:xfrm>
              <a:off x="1952640" y="45716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 name="Rectangle 25"/>
          <p:cNvSpPr/>
          <p:nvPr/>
        </p:nvSpPr>
        <p:spPr>
          <a:xfrm>
            <a:off x="5943600" y="3124080"/>
            <a:ext cx="2666880" cy="2514600"/>
          </a:xfrm>
          <a:prstGeom prst="rect">
            <a:avLst/>
          </a:prstGeom>
          <a:noFill/>
          <a:ln w="38160">
            <a:solidFill>
              <a:srgbClr val="f0a2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4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 X sketches the following diagram to use for his metal box project. If he uses this diagram, will his metal fold into a box?</a:t>
            </a:r>
            <a:endParaRPr b="0" lang="en-US" sz="2800" spc="-1" strike="noStrike">
              <a:solidFill>
                <a:srgbClr val="4e3b30"/>
              </a:solidFill>
              <a:latin typeface="Verdana"/>
            </a:endParaRPr>
          </a:p>
        </p:txBody>
      </p:sp>
      <p:sp>
        <p:nvSpPr>
          <p:cNvPr id="64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7" name="Group 4"/>
          <p:cNvGrpSpPr/>
          <p:nvPr/>
        </p:nvGrpSpPr>
        <p:grpSpPr>
          <a:xfrm>
            <a:off x="3695760" y="3581280"/>
            <a:ext cx="1866960" cy="1257480"/>
            <a:chOff x="3695760" y="3581280"/>
            <a:chExt cx="1866960" cy="1257480"/>
          </a:xfrm>
        </p:grpSpPr>
        <p:sp>
          <p:nvSpPr>
            <p:cNvPr id="648" name="Rectangle 10"/>
            <p:cNvSpPr/>
            <p:nvPr/>
          </p:nvSpPr>
          <p:spPr>
            <a:xfrm>
              <a:off x="5096160" y="44197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9"/>
            <p:cNvSpPr/>
            <p:nvPr/>
          </p:nvSpPr>
          <p:spPr>
            <a:xfrm>
              <a:off x="3695760" y="44197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8"/>
            <p:cNvSpPr/>
            <p:nvPr/>
          </p:nvSpPr>
          <p:spPr>
            <a:xfrm>
              <a:off x="3695760" y="40003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7"/>
            <p:cNvSpPr/>
            <p:nvPr/>
          </p:nvSpPr>
          <p:spPr>
            <a:xfrm>
              <a:off x="3695760" y="358128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6"/>
            <p:cNvSpPr/>
            <p:nvPr/>
          </p:nvSpPr>
          <p:spPr>
            <a:xfrm>
              <a:off x="4162320" y="44197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5"/>
            <p:cNvSpPr/>
            <p:nvPr/>
          </p:nvSpPr>
          <p:spPr>
            <a:xfrm>
              <a:off x="4629240" y="44197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5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No, there will be overlapping side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 Y sketches the following diagram to use for his metal box project. If he uses this diagram, will his metal fold into a box?</a:t>
            </a:r>
            <a:endParaRPr b="0" lang="en-US" sz="2800" spc="-1" strike="noStrike">
              <a:solidFill>
                <a:srgbClr val="4e3b30"/>
              </a:solidFill>
              <a:latin typeface="Verdana"/>
            </a:endParaRPr>
          </a:p>
        </p:txBody>
      </p:sp>
      <p:sp>
        <p:nvSpPr>
          <p:cNvPr id="65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9" name="Group 4"/>
          <p:cNvGrpSpPr/>
          <p:nvPr/>
        </p:nvGrpSpPr>
        <p:grpSpPr>
          <a:xfrm>
            <a:off x="3948120" y="3429000"/>
            <a:ext cx="1400040" cy="1676520"/>
            <a:chOff x="3948120" y="3429000"/>
            <a:chExt cx="1400040" cy="1676520"/>
          </a:xfrm>
        </p:grpSpPr>
        <p:sp>
          <p:nvSpPr>
            <p:cNvPr id="660" name="Rectangle 10"/>
            <p:cNvSpPr/>
            <p:nvPr/>
          </p:nvSpPr>
          <p:spPr>
            <a:xfrm>
              <a:off x="4414680" y="384804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9"/>
            <p:cNvSpPr/>
            <p:nvPr/>
          </p:nvSpPr>
          <p:spPr>
            <a:xfrm>
              <a:off x="3948120" y="468648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8"/>
            <p:cNvSpPr/>
            <p:nvPr/>
          </p:nvSpPr>
          <p:spPr>
            <a:xfrm>
              <a:off x="4881600" y="342900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7"/>
            <p:cNvSpPr/>
            <p:nvPr/>
          </p:nvSpPr>
          <p:spPr>
            <a:xfrm>
              <a:off x="4881600" y="384804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6"/>
            <p:cNvSpPr/>
            <p:nvPr/>
          </p:nvSpPr>
          <p:spPr>
            <a:xfrm>
              <a:off x="3948120" y="426708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5"/>
            <p:cNvSpPr/>
            <p:nvPr/>
          </p:nvSpPr>
          <p:spPr>
            <a:xfrm>
              <a:off x="4414680" y="426708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Yes, there is the correct number of squares, and they each fold to represent one side of the box.</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Ag Metal Fabrication students use geometry shapes to determine how to cut and bend metal to create metal box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 Metal Fabrication—AMF1.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repare different types of metal for welding.</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Bend, shape, file, and grind metal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9-12.G.2.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able to recognize the relationship between a three-dimensional figure and its two-dimensional representation.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ich of the following will fold into a cub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eps to make a net diagram of a box:</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tart with six squares since there are six sides to a cub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rrange the six squares so they fold into a cub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ink of a cube as four sides, a top, and a bottom.</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rst choose one square to be the base of the cube in your mind.</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eps to make a net diagram of a box:</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en imagine the sides folding up around the bas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e last square should flip over to be the top of the cub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asked to create a small box by bending and shaping metal. They first diagram their box design on paper to determine how it will fold. Using geometry knowledge, they will create a model that will fold into a box.</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 A creates this design. He cuts out the paper model and practices folding it to ensure his diagram will work.</a:t>
            </a:r>
            <a:endParaRPr b="0" lang="en-US" sz="2800" spc="-1" strike="noStrike">
              <a:solidFill>
                <a:srgbClr val="4e3b30"/>
              </a:solidFill>
              <a:latin typeface="Verdana"/>
            </a:endParaRPr>
          </a:p>
        </p:txBody>
      </p:sp>
      <p:sp>
        <p:nvSpPr>
          <p:cNvPr id="56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9" name="Group 4"/>
          <p:cNvGrpSpPr/>
          <p:nvPr/>
        </p:nvGrpSpPr>
        <p:grpSpPr>
          <a:xfrm>
            <a:off x="3200400" y="3733920"/>
            <a:ext cx="2333520" cy="1256760"/>
            <a:chOff x="3200400" y="3733920"/>
            <a:chExt cx="2333520" cy="1256760"/>
          </a:xfrm>
        </p:grpSpPr>
        <p:sp>
          <p:nvSpPr>
            <p:cNvPr id="570" name="Rectangle 11"/>
            <p:cNvSpPr/>
            <p:nvPr/>
          </p:nvSpPr>
          <p:spPr>
            <a:xfrm>
              <a:off x="320040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10"/>
            <p:cNvSpPr/>
            <p:nvPr/>
          </p:nvSpPr>
          <p:spPr>
            <a:xfrm>
              <a:off x="366696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9"/>
            <p:cNvSpPr/>
            <p:nvPr/>
          </p:nvSpPr>
          <p:spPr>
            <a:xfrm>
              <a:off x="413388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8"/>
            <p:cNvSpPr/>
            <p:nvPr/>
          </p:nvSpPr>
          <p:spPr>
            <a:xfrm>
              <a:off x="460044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7"/>
            <p:cNvSpPr/>
            <p:nvPr/>
          </p:nvSpPr>
          <p:spPr>
            <a:xfrm>
              <a:off x="3666960" y="457200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6"/>
            <p:cNvSpPr/>
            <p:nvPr/>
          </p:nvSpPr>
          <p:spPr>
            <a:xfrm>
              <a:off x="3666960" y="37339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5"/>
            <p:cNvSpPr/>
            <p:nvPr/>
          </p:nvSpPr>
          <p:spPr>
            <a:xfrm>
              <a:off x="5067360" y="415260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8"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fter he tries folding this model, he realizes he has one too many squares. He only needs six. He tries again by cutting off one square cube of the paper.</a:t>
            </a:r>
            <a:endParaRPr b="0" lang="en-US" sz="2800" spc="-1" strike="noStrike">
              <a:solidFill>
                <a:srgbClr val="4e3b30"/>
              </a:solidFill>
              <a:latin typeface="Verdana"/>
            </a:endParaRPr>
          </a:p>
        </p:txBody>
      </p:sp>
      <p:sp>
        <p:nvSpPr>
          <p:cNvPr id="57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1" name="Group 1"/>
          <p:cNvGrpSpPr/>
          <p:nvPr/>
        </p:nvGrpSpPr>
        <p:grpSpPr>
          <a:xfrm>
            <a:off x="3200400" y="3733920"/>
            <a:ext cx="1866960" cy="1256760"/>
            <a:chOff x="3200400" y="3733920"/>
            <a:chExt cx="1866960" cy="1256760"/>
          </a:xfrm>
        </p:grpSpPr>
        <p:sp>
          <p:nvSpPr>
            <p:cNvPr id="582" name="Rectangle 7"/>
            <p:cNvSpPr/>
            <p:nvPr/>
          </p:nvSpPr>
          <p:spPr>
            <a:xfrm>
              <a:off x="320040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6"/>
            <p:cNvSpPr/>
            <p:nvPr/>
          </p:nvSpPr>
          <p:spPr>
            <a:xfrm>
              <a:off x="366696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5"/>
            <p:cNvSpPr/>
            <p:nvPr/>
          </p:nvSpPr>
          <p:spPr>
            <a:xfrm>
              <a:off x="413388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460080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3"/>
            <p:cNvSpPr/>
            <p:nvPr/>
          </p:nvSpPr>
          <p:spPr>
            <a:xfrm>
              <a:off x="3666960" y="457200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
            <p:cNvSpPr/>
            <p:nvPr/>
          </p:nvSpPr>
          <p:spPr>
            <a:xfrm>
              <a:off x="3666960" y="37339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7-31T05:26:05Z</dcterms:modified>
  <cp:revision>20</cp:revision>
  <dc:subject/>
  <dc:title>South Dakota Ag Education</dc:title>
</cp:coreProperties>
</file>